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4D30-0F22-45A1-8C49-732334C6F2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4F3D-AE49-4B76-89EA-B7E66FB8FA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CBE-4DA7-422D-9FBA-DD1CD45C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9D1A-F598-4461-80BA-4A73C6A0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77AD-60CD-4781-9D01-E6E1D037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D5A-1E24-410D-ABE9-42A53783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5ED-8618-4C62-861C-AB7451BA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45C-DC4C-4D29-808F-32071190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69B8-A688-4CC7-BD08-ACF1FF65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7ED0-D577-4CBB-9EF0-EC56F411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B1E-BC1B-47E6-972C-1EE52A45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1537-5828-49FD-BD34-1D8D7AB5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550D-8B07-4966-A8A8-9A04057F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789-F194-4B95-AF8F-D9AC58B0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D7F6-917C-4A5F-9756-A058A791AA3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Публичный доклад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за 2009-2010 учебный го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У СОШ № 6 им. Ц.Л. Куни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1"/>
          <p:cNvGraphicFramePr/>
          <p:nvPr/>
        </p:nvGraphicFramePr>
        <p:xfrm>
          <a:off x="304920" y="293760"/>
          <a:ext cx="8610480" cy="62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3760"/>
                    <a:ext cx="861048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6465-A02E-4159-8E42-642377452C8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71320" y="428760"/>
            <a:ext cx="80722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00 % успеваемость– 26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500120"/>
            <a:ext cx="40402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учшие результаты показал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«А» - Кл. рук. Пименова С.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«А» – Кл. рук. Бойко Н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«В» - Кл. рук. Варельджан Н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«А» - Кл.рук. Шинкаренко И.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«Г» - Кл.рук. Налеткина Н.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«А» - Кл. рук. Черкасова Т.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«А» - Кл. рук. Старченко Е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785840" y="1428840"/>
            <a:ext cx="404172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изкие результа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казали учащие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6160" y="2571840"/>
            <a:ext cx="4572000" cy="30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«Б» - Кл. рук. Букарева С.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«А» - Кл. рук. Ефанова Т.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«Б» - Кл. рук. Радько А.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«А» - Кл. рук Акопова Н.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«Б» - Кл. рук. Восканян С.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13A8-4D3E-4248-B4DB-7F51248799A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оличество «5», «4», «3», «2» по обязательным экзаменам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(сравнительная таблица)</a:t>
            </a:r>
            <a:br>
              <a:rPr sz="40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4" descr=""/>
          <p:cNvPicPr/>
          <p:nvPr/>
        </p:nvPicPr>
        <p:blipFill>
          <a:blip r:embed="rId1"/>
          <a:stretch/>
        </p:blipFill>
        <p:spPr>
          <a:xfrm>
            <a:off x="426960" y="1427040"/>
            <a:ext cx="8431200" cy="493092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8176-4B67-4FF7-B7A0-08EE59AE7F3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лективные курсы, разработанные учителям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2009-2010 учебном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8400" y="135684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ранные вопросы математик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ч – Балакина Е.Н.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арева С.Н., Хасапетян Н.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й практикум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ч – Балакина Е.Н.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як Г.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 в тестах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 ч – Радько А.В.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иченко Н.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общаться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 ч – Черкасова Т.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производство на компьютер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 ч – Полатовская О.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грамот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ч. – Полатовская О.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проек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ч. – Ходаковская М.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я международног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ч. - Лукьянова О.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из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ь в професси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ч. –Акопова Н.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ое пра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ч. –Акопова Н.С., Ефанова Т.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религий, свободомыслия и атеизм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ч. – Ефанова Т.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государственных символов Росс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ч.  - Акопова Н.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ка. Семейный бюджет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ч. – Акопова Н.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60A7-44C2-48E5-8059-9BD4217CCC1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ая аттестация</a:t>
            </a:r>
            <a:br>
              <a:rPr sz="6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-2010 учебный год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ая аттестация 9-х классов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0A73-B166-4637-9F4E-B6A6EB0C79C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FCF6-3D97-4180-B2E1-27334282B54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личество экзаменов, сдаваемых ТЭК и ШЭ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0040" y="1000080"/>
          <a:ext cx="8286840" cy="5199120"/>
        </p:xfrm>
        <a:graphic>
          <a:graphicData uri="http://schemas.openxmlformats.org/drawingml/2006/table">
            <a:tbl>
              <a:tblPr/>
              <a:tblGrid>
                <a:gridCol w="2697120"/>
                <a:gridCol w="2793960"/>
                <a:gridCol w="2795760"/>
              </a:tblGrid>
              <a:tr h="560520"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экзаменов, сдаваемых ТЭ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экзаменов, сдаваемых ШЭ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760"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алгебра, русский язык, геометрия, биология, география, физика, химия, обществозн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(черчение, ОБЖ, история России, физ-ра, английский язык, химия, обществозн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200"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(алгебра, русский язык, физика, химия, география, обществознание, английский язы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ОБЖ, физика, география, обществознание, физ-ра, черчение, английский язык, хим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2640"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(алгебра, русский язык,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лийский язык,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 Росссии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, география, физика, ОБЖ, физ-р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(ОБЖ, физика, география, обществознание, физ-ра,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метр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английский язык, химия,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стория России,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661D-AC5C-4767-8478-567501F1123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Диаграмма 4" descr=""/>
          <p:cNvPicPr/>
          <p:nvPr/>
        </p:nvPicPr>
        <p:blipFill>
          <a:blip r:embed="rId1"/>
          <a:stretch/>
        </p:blipFill>
        <p:spPr>
          <a:xfrm>
            <a:off x="781200" y="493560"/>
            <a:ext cx="8008920" cy="287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785880" y="3714840"/>
          <a:ext cx="7929360" cy="2500200"/>
        </p:xfrm>
        <a:graphic>
          <a:graphicData uri="http://schemas.openxmlformats.org/drawingml/2006/table">
            <a:tbl>
              <a:tblPr/>
              <a:tblGrid>
                <a:gridCol w="3963960"/>
                <a:gridCol w="3965400"/>
              </a:tblGrid>
              <a:tr h="100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аттеста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ого образ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214308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АЯ АТТЕСТАЦИЯ 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Х КЛАС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E1E3-5FCA-449E-81C0-F515074508C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8880-D936-4648-B01B-E7090675F1A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Диаграмма 4" descr=""/>
          <p:cNvPicPr/>
          <p:nvPr/>
        </p:nvPicPr>
        <p:blipFill>
          <a:blip r:embed="rId1"/>
          <a:stretch/>
        </p:blipFill>
        <p:spPr>
          <a:xfrm>
            <a:off x="566640" y="420840"/>
            <a:ext cx="8156520" cy="6083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нимальный, максимальный и средний балл сдачи экзаменов в форме и по материалам ЕГ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9696-0A8A-4048-B3DE-B7735091749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57120" y="1285920"/>
          <a:ext cx="8429760" cy="4525920"/>
        </p:xfrm>
        <a:graphic>
          <a:graphicData uri="http://schemas.openxmlformats.org/drawingml/2006/table">
            <a:tbl>
              <a:tblPr/>
              <a:tblGrid>
                <a:gridCol w="338040"/>
                <a:gridCol w="1762200"/>
                <a:gridCol w="1265400"/>
                <a:gridCol w="1935000"/>
                <a:gridCol w="1127160"/>
                <a:gridCol w="1138320"/>
                <a:gridCol w="863640"/>
              </a:tblGrid>
              <a:tr h="92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ыпускников, сдававших ЕГЭ по предм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ое количество баллов , установленное Рособрнадзор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Рамка"/>
          <p:cNvPicPr/>
          <p:nvPr/>
        </p:nvPicPr>
        <p:blipFill>
          <a:blip r:embed="rId1"/>
          <a:stretch/>
        </p:blipFill>
        <p:spPr>
          <a:xfrm>
            <a:off x="826920" y="1628640"/>
            <a:ext cx="7848720" cy="2784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24784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 Black"/>
              </a:rPr>
              <a:t>Учебн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ы/максимальное количество баллов, набранных учащими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8" descr=""/>
          <p:cNvPicPr/>
          <p:nvPr/>
        </p:nvPicPr>
        <p:blipFill>
          <a:blip r:embed="rId1"/>
          <a:stretch/>
        </p:blipFill>
        <p:spPr>
          <a:xfrm>
            <a:off x="500040" y="1639800"/>
            <a:ext cx="8290080" cy="3419640"/>
          </a:xfrm>
          <a:prstGeom prst="rect">
            <a:avLst/>
          </a:prstGeom>
          <a:ln w="0">
            <a:noFill/>
          </a:ln>
        </p:spPr>
      </p:pic>
      <p:sp>
        <p:nvSpPr>
          <p:cNvPr id="1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339C-FF7A-4CC4-A968-2E71598A99A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F8C4-B4C2-46B2-8490-8CC366A5599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одержимое 6" descr=""/>
          <p:cNvPicPr/>
          <p:nvPr/>
        </p:nvPicPr>
        <p:blipFill>
          <a:blip r:embed="rId1"/>
          <a:stretch/>
        </p:blipFill>
        <p:spPr>
          <a:xfrm>
            <a:off x="450720" y="420840"/>
            <a:ext cx="8242560" cy="244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928800" y="3000240"/>
          <a:ext cx="7572240" cy="3071880"/>
        </p:xfrm>
        <a:graphic>
          <a:graphicData uri="http://schemas.openxmlformats.org/drawingml/2006/table">
            <a:tbl>
              <a:tblPr/>
              <a:tblGrid>
                <a:gridCol w="2523960"/>
                <a:gridCol w="2524320"/>
                <a:gridCol w="2523960"/>
              </a:tblGrid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золотых меда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серебряных  меда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3"/>
          <p:cNvSpPr/>
          <p:nvPr/>
        </p:nvSpPr>
        <p:spPr>
          <a:xfrm>
            <a:off x="1676520" y="2286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ие во всероссийских предметных                    викторинах - конкур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371600"/>
          <a:ext cx="8001000" cy="1371600"/>
        </p:xfrm>
        <a:graphic>
          <a:graphicData uri="http://schemas.openxmlformats.org/drawingml/2006/table">
            <a:tbl>
              <a:tblPr/>
              <a:tblGrid>
                <a:gridCol w="2000520"/>
                <a:gridCol w="1998360"/>
                <a:gridCol w="2001960"/>
                <a:gridCol w="2000160"/>
              </a:tblGrid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 ч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 ч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 ч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3612240" y="-31320"/>
            <a:ext cx="19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учащих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Диаграмма 6" descr=""/>
          <p:cNvPicPr/>
          <p:nvPr/>
        </p:nvPicPr>
        <p:blipFill>
          <a:blip r:embed="rId1"/>
          <a:stretch/>
        </p:blipFill>
        <p:spPr>
          <a:xfrm>
            <a:off x="530280" y="3041640"/>
            <a:ext cx="8163000" cy="3438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3"/>
          <p:cNvSpPr/>
          <p:nvPr/>
        </p:nvSpPr>
        <p:spPr>
          <a:xfrm>
            <a:off x="3505320" y="2286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762120"/>
          <a:ext cx="8610480" cy="5941800"/>
        </p:xfrm>
        <a:graphic>
          <a:graphicData uri="http://schemas.openxmlformats.org/drawingml/2006/table">
            <a:tbl>
              <a:tblPr/>
              <a:tblGrid>
                <a:gridCol w="1785960"/>
                <a:gridCol w="1787400"/>
                <a:gridCol w="1668600"/>
                <a:gridCol w="1684080"/>
                <a:gridCol w="1684440"/>
              </a:tblGrid>
              <a:tr h="312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 учащего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 в шк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 в райо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rowSpan="6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зьмин 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енгур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рочек 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наковский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мцова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усский медвежон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онян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чникова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нглийский бульдог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rowSpan="3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жемадинова 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усский медвежон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инова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чникова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 rowSpan="8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имова 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ритиш Бульдог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нкова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ылов 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енгур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ко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яш 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усский медвежон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башьян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рсова 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гниева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Oval 5"/>
          <p:cNvSpPr/>
          <p:nvPr/>
        </p:nvSpPr>
        <p:spPr>
          <a:xfrm>
            <a:off x="2133720" y="457200"/>
            <a:ext cx="4495680" cy="1447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ллектив с устремлениям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 качественному образован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 rot="561600">
            <a:off x="-101520" y="1523880"/>
            <a:ext cx="2950920" cy="180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 выпускников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ернувших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чител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родную школ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"/>
          <p:cNvSpPr/>
          <p:nvPr/>
        </p:nvSpPr>
        <p:spPr>
          <a:xfrm rot="20554200">
            <a:off x="5922720" y="1111320"/>
            <a:ext cx="3203280" cy="23875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роки, вст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здник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ъединенн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евиз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Спорт, творчеств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уховность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"/>
          <p:cNvSpPr/>
          <p:nvPr/>
        </p:nvSpPr>
        <p:spPr>
          <a:xfrm rot="21036600">
            <a:off x="80640" y="3960360"/>
            <a:ext cx="2879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иц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алой роди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Кубан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1763640" y="5516640"/>
            <a:ext cx="4608720" cy="1152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Школа, где говорят, думают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ют и танцу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0"/>
          <p:cNvSpPr/>
          <p:nvPr/>
        </p:nvSpPr>
        <p:spPr>
          <a:xfrm rot="700200">
            <a:off x="6017760" y="4274640"/>
            <a:ext cx="3275280" cy="18226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Школа, где берегу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уников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ради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E:\DCIM\100SSCAM\SDC11291.JPG"/>
          <p:cNvPicPr/>
          <p:nvPr/>
        </p:nvPicPr>
        <p:blipFill>
          <a:blip r:embed="rId1"/>
          <a:stretch/>
        </p:blipFill>
        <p:spPr>
          <a:xfrm>
            <a:off x="2719440" y="2432160"/>
            <a:ext cx="3327480" cy="44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6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6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700"/>
                            </p:stCondLst>
                            <p:childTnLst>
                              <p:par>
                                <p:cTn id="2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6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700"/>
                            </p:stCondLst>
                            <p:childTnLst>
                              <p:par>
                                <p:cTn id="2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700"/>
                            </p:stCondLst>
                            <p:childTnLst>
                              <p:par>
                                <p:cTn id="2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1700"/>
                            </p:stCondLst>
                            <p:childTnLst>
                              <p:par>
                                <p:cTn id="2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7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Рамка"/>
          <p:cNvPicPr/>
          <p:nvPr/>
        </p:nvPicPr>
        <p:blipFill>
          <a:blip r:embed="rId1"/>
          <a:stretch/>
        </p:blipFill>
        <p:spPr>
          <a:xfrm>
            <a:off x="826920" y="1628640"/>
            <a:ext cx="7848720" cy="27846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6082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 Black"/>
              </a:rPr>
              <a:t>Методическая работа школ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920" y="2565000"/>
            <a:ext cx="8540640" cy="3149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0000"/>
            </a:outerShdw>
          </a:effectLst>
        </p:spPr>
        <p:txBody>
          <a:bodyPr anchor="t">
            <a:normAutofit fontScale="95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3300"/>
                </a:solidFill>
                <a:latin typeface="Calibri"/>
              </a:rPr>
              <a:t>« </a:t>
            </a: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Дифференциация и гуманизация образовательного процесса – залог повышения качества образования»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0"/>
          <p:cNvSpPr/>
          <p:nvPr/>
        </p:nvSpPr>
        <p:spPr>
          <a:xfrm>
            <a:off x="250920" y="1022400"/>
            <a:ext cx="85406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2005 года коллектив школы работает над проблемо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2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456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6" autoRev="1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95280" y="758520"/>
            <a:ext cx="8626320" cy="540684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0000ff"/>
            </a:outerShdw>
          </a:effectLst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ходе работы над проблемой школы теоретические вопросы были изучены через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педагогические совет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психолого-педагогические семина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работу школьного методического со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15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На педагогических советах были рассмотрены следующие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-757080" y="4292640"/>
            <a:ext cx="82296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468360" y="1484280"/>
            <a:ext cx="8136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Обще-учебные умения и навыки – важнейшее условие развития познавательных способностей учащихся и активизация учения в системе личностно – ориентированного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Формирование условия для самореализации творческих способностей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Воспитательная система школы – как условие социализации личности ученика. Нравственный закон внутри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2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15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На педагогических советах были рассмотрены следующие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-757080" y="4292640"/>
            <a:ext cx="82296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68360" y="1143000"/>
            <a:ext cx="8136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Обще-учебные умения и навыки – важнейшее условие развития познавательных способностей учащихся и активизация учения в системе личностно – ориентированного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Формирование условия для самореализации творческих способностей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Воспитательная система школы – как условие социализации личности ученика. Нравственный закон внутри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3"/>
          <p:cNvSpPr txBox="1"/>
          <p:nvPr/>
        </p:nvSpPr>
        <p:spPr>
          <a:xfrm>
            <a:off x="1116000" y="5229360"/>
            <a:ext cx="662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Нас 811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52" name="Picture 9" descr="iшкола 019"/>
          <p:cNvPicPr/>
          <p:nvPr/>
        </p:nvPicPr>
        <p:blipFill>
          <a:blip r:embed="rId3"/>
          <a:stretch/>
        </p:blipFill>
        <p:spPr>
          <a:xfrm rot="20195400">
            <a:off x="593280" y="1036440"/>
            <a:ext cx="4089600" cy="3066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iшкола 020"/>
          <p:cNvPicPr/>
          <p:nvPr/>
        </p:nvPicPr>
        <p:blipFill>
          <a:blip r:embed="rId4"/>
          <a:stretch/>
        </p:blipFill>
        <p:spPr>
          <a:xfrm rot="828600">
            <a:off x="4716360" y="1450440"/>
            <a:ext cx="4172040" cy="2649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6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Семина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83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Технологии в системе личностно – ориентир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Теоретические основы личностно – ориентированного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Формы организации урока в старших класс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Уровневая дифференциация в обучении. Коррекция деятельности учителя в условиях уровневой дифференци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Технология учебных цик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Технология модульного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Технология дифференцированного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Метод проекта в системе личностно – ориентированного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Индивидуализация обучения и психолого-педагогическая поддержка одаренных и слабоуспевающ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Технология развивающего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228600"/>
            <a:ext cx="8488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На заседаниях МС и МО </a:t>
            </a:r>
            <a:br>
              <a:rPr sz="3600"/>
            </a:b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рассматривались следующие 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391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Требования к современному уроку. Внедрение в учебный процесс новых образовательных технолог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Современный урок с позиции личностно-ориентированного обу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Стимулирование познавательной деятельности младших школь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Применение личностно-ориентированных технолог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Исследовательская культура учащего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Методика обобщения и распространения передового педагогического опы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Структура уроков развивающего обу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5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000"/>
                            </p:stCondLst>
                            <p:childTnLst>
                              <p:par>
                                <p:cTn id="3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000"/>
                            </p:stCondLst>
                            <p:childTnLst>
                              <p:par>
                                <p:cTn id="3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Рамка"/>
          <p:cNvPicPr/>
          <p:nvPr/>
        </p:nvPicPr>
        <p:blipFill>
          <a:blip r:embed="rId1"/>
          <a:stretch/>
        </p:blipFill>
        <p:spPr>
          <a:xfrm>
            <a:off x="838080" y="1295280"/>
            <a:ext cx="7848720" cy="27846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905120"/>
            <a:ext cx="8510760" cy="132552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 Black"/>
              </a:rPr>
              <a:t>Воспитательная ра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137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Calibri"/>
              </a:rPr>
              <a:t>В школе работ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социально-психологическая реабилитационная служб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Calibri"/>
              </a:rPr>
              <a:t>В состав службы входит психолого-медико-педагогический консилиум и Совет профилактики предупреждения правонарушений и преступлений в детско-подростковой сре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826920" y="620640"/>
            <a:ext cx="7777440" cy="54558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Цель службы 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оказание  комплексной социально-психолого-педагогической и логопедической помощи и поддержки детям и подросткам с ограниченными возможностями здоровья и различными видами дезадаптации, а именно:  с нарушениями в речевой, когнитивной, психомоторной, соматической, эмоционально-личностной сфере и пове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5"/>
          <p:cNvSpPr/>
          <p:nvPr/>
        </p:nvSpPr>
        <p:spPr>
          <a:xfrm>
            <a:off x="826920" y="1125360"/>
            <a:ext cx="2737080" cy="216000"/>
          </a:xfrm>
          <a:prstGeom prst="pie">
            <a:avLst/>
          </a:pr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3"/>
          <p:cNvSpPr/>
          <p:nvPr/>
        </p:nvSpPr>
        <p:spPr>
          <a:xfrm>
            <a:off x="1676520" y="304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ятость учащихся МОУ СОШ № 6 им. Ц.Л.Кун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ородских кружках допобразования в 2010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1"/>
          <a:srcRect l="911" t="1698" r="911" b="3387"/>
          <a:stretch/>
        </p:blipFill>
        <p:spPr>
          <a:xfrm>
            <a:off x="304920" y="1523880"/>
            <a:ext cx="86058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rcRect l="927" t="2235" r="1850" b="3730"/>
          <a:stretch/>
        </p:blipFill>
        <p:spPr>
          <a:xfrm>
            <a:off x="304920" y="1371600"/>
            <a:ext cx="8534160" cy="51213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8"/>
          <p:cNvSpPr/>
          <p:nvPr/>
        </p:nvSpPr>
        <p:spPr>
          <a:xfrm>
            <a:off x="1240920" y="152280"/>
            <a:ext cx="700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иторинг занятости учащихся МОУ СОШ №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неурочно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rcRect l="910" t="1481" r="1668" b="2218"/>
          <a:stretch/>
        </p:blipFill>
        <p:spPr>
          <a:xfrm>
            <a:off x="304920" y="1371600"/>
            <a:ext cx="8529480" cy="51814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6"/>
          <p:cNvSpPr/>
          <p:nvPr/>
        </p:nvSpPr>
        <p:spPr>
          <a:xfrm>
            <a:off x="609480" y="380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ятость учащихся в школьных кружках и спортивных сек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3160" y="0"/>
            <a:ext cx="7931160" cy="533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школе действует детская организация «Куниковец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2743200" y="1523880"/>
            <a:ext cx="335268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Общешко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4"/>
          <p:cNvSpPr/>
          <p:nvPr/>
        </p:nvSpPr>
        <p:spPr>
          <a:xfrm>
            <a:off x="2514600" y="2209680"/>
            <a:ext cx="3886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Совет шко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Учащие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5-8 классов                                               9-11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6"/>
          <p:cNvSpPr/>
          <p:nvPr/>
        </p:nvSpPr>
        <p:spPr>
          <a:xfrm>
            <a:off x="228600" y="3276720"/>
            <a:ext cx="1981080" cy="838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портивный сектор клуб «ОЛИМП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7"/>
          <p:cNvSpPr/>
          <p:nvPr/>
        </p:nvSpPr>
        <p:spPr>
          <a:xfrm>
            <a:off x="2286000" y="3276720"/>
            <a:ext cx="2057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триотический се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8"/>
          <p:cNvSpPr/>
          <p:nvPr/>
        </p:nvSpPr>
        <p:spPr>
          <a:xfrm>
            <a:off x="4572000" y="3276720"/>
            <a:ext cx="2057400" cy="838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ультмассовый се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6781680" y="3200400"/>
            <a:ext cx="2057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Штаб труда и поряд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0"/>
          <p:cNvSpPr/>
          <p:nvPr/>
        </p:nvSpPr>
        <p:spPr>
          <a:xfrm>
            <a:off x="2971800" y="4343400"/>
            <a:ext cx="304812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Учебная комис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1"/>
          <p:cNvSpPr/>
          <p:nvPr/>
        </p:nvSpPr>
        <p:spPr>
          <a:xfrm>
            <a:off x="1981080" y="4876920"/>
            <a:ext cx="495324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лассные ученические собр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2"/>
          <p:cNvSpPr/>
          <p:nvPr/>
        </p:nvSpPr>
        <p:spPr>
          <a:xfrm>
            <a:off x="2590920" y="5410080"/>
            <a:ext cx="4038480" cy="381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таросты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13"/>
          <p:cNvSpPr/>
          <p:nvPr/>
        </p:nvSpPr>
        <p:spPr>
          <a:xfrm>
            <a:off x="228600" y="6019920"/>
            <a:ext cx="1600200" cy="533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портивный се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14"/>
          <p:cNvSpPr/>
          <p:nvPr/>
        </p:nvSpPr>
        <p:spPr>
          <a:xfrm>
            <a:off x="2057400" y="6019920"/>
            <a:ext cx="1523880" cy="533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триотический се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15"/>
          <p:cNvSpPr/>
          <p:nvPr/>
        </p:nvSpPr>
        <p:spPr>
          <a:xfrm>
            <a:off x="3886200" y="6019920"/>
            <a:ext cx="1447920" cy="533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ультмассовый се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16"/>
          <p:cNvSpPr/>
          <p:nvPr/>
        </p:nvSpPr>
        <p:spPr>
          <a:xfrm>
            <a:off x="5562720" y="6019920"/>
            <a:ext cx="1600200" cy="533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Штаб труда и поряд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17"/>
          <p:cNvSpPr/>
          <p:nvPr/>
        </p:nvSpPr>
        <p:spPr>
          <a:xfrm>
            <a:off x="7391520" y="6019920"/>
            <a:ext cx="1523880" cy="533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есс-цен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Прямая со стрелкой 25"/>
          <p:cNvCxnSpPr/>
          <p:nvPr/>
        </p:nvCxnSpPr>
        <p:spPr>
          <a:xfrm flipH="1">
            <a:off x="4341600" y="1982520"/>
            <a:ext cx="360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9" name="Прямая со стрелкой 31"/>
          <p:cNvCxnSpPr/>
          <p:nvPr/>
        </p:nvCxnSpPr>
        <p:spPr>
          <a:xfrm flipH="1">
            <a:off x="4494960" y="2742840"/>
            <a:ext cx="2520" cy="15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0" name="Прямая со стрелкой 34"/>
          <p:cNvCxnSpPr>
            <a:endCxn id="167" idx="0"/>
          </p:cNvCxnSpPr>
          <p:nvPr/>
        </p:nvCxnSpPr>
        <p:spPr>
          <a:xfrm>
            <a:off x="4649760" y="5790960"/>
            <a:ext cx="350424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" name="Прямая со стрелкой 36"/>
          <p:cNvCxnSpPr>
            <a:endCxn id="165" idx="0"/>
          </p:cNvCxnSpPr>
          <p:nvPr/>
        </p:nvCxnSpPr>
        <p:spPr>
          <a:xfrm flipH="1">
            <a:off x="4609800" y="5868720"/>
            <a:ext cx="40320" cy="151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" name="Прямая со стрелкой 45"/>
          <p:cNvCxnSpPr>
            <a:endCxn id="163" idx="0"/>
          </p:cNvCxnSpPr>
          <p:nvPr/>
        </p:nvCxnSpPr>
        <p:spPr>
          <a:xfrm flipH="1">
            <a:off x="1028520" y="5790240"/>
            <a:ext cx="362160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Прямая со стрелкой 48"/>
          <p:cNvCxnSpPr>
            <a:endCxn id="164" idx="0"/>
          </p:cNvCxnSpPr>
          <p:nvPr/>
        </p:nvCxnSpPr>
        <p:spPr>
          <a:xfrm flipH="1">
            <a:off x="2819160" y="5790240"/>
            <a:ext cx="183096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4" name="Прямая со стрелкой 50"/>
          <p:cNvCxnSpPr>
            <a:endCxn id="166" idx="0"/>
          </p:cNvCxnSpPr>
          <p:nvPr/>
        </p:nvCxnSpPr>
        <p:spPr>
          <a:xfrm>
            <a:off x="4649760" y="5790960"/>
            <a:ext cx="171360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5" name="Прямая со стрелкой 52"/>
          <p:cNvCxnSpPr>
            <a:endCxn id="162" idx="0"/>
          </p:cNvCxnSpPr>
          <p:nvPr/>
        </p:nvCxnSpPr>
        <p:spPr>
          <a:xfrm flipH="1">
            <a:off x="4609800" y="5257440"/>
            <a:ext cx="40320" cy="153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6" name="Прямая соединительная линия 65"/>
          <p:cNvSpPr/>
          <p:nvPr/>
        </p:nvSpPr>
        <p:spPr>
          <a:xfrm>
            <a:off x="1219320" y="3048120"/>
            <a:ext cx="6476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Прямая со стрелкой 69"/>
          <p:cNvCxnSpPr/>
          <p:nvPr/>
        </p:nvCxnSpPr>
        <p:spPr>
          <a:xfrm flipH="1">
            <a:off x="1066320" y="3047760"/>
            <a:ext cx="15480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Прямая со стрелкой 71"/>
          <p:cNvCxnSpPr>
            <a:endCxn id="157" idx="0"/>
          </p:cNvCxnSpPr>
          <p:nvPr/>
        </p:nvCxnSpPr>
        <p:spPr>
          <a:xfrm>
            <a:off x="3278160" y="3047760"/>
            <a:ext cx="3744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9" name="Прямая со стрелкой 73"/>
          <p:cNvCxnSpPr>
            <a:endCxn id="158" idx="0"/>
          </p:cNvCxnSpPr>
          <p:nvPr/>
        </p:nvCxnSpPr>
        <p:spPr>
          <a:xfrm>
            <a:off x="5564160" y="3047760"/>
            <a:ext cx="3744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0" name="Прямая со стрелкой 75"/>
          <p:cNvCxnSpPr>
            <a:endCxn id="159" idx="0"/>
          </p:cNvCxnSpPr>
          <p:nvPr/>
        </p:nvCxnSpPr>
        <p:spPr>
          <a:xfrm>
            <a:off x="7696800" y="3047760"/>
            <a:ext cx="113400" cy="153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1" name="TextBox 81"/>
          <p:cNvSpPr/>
          <p:nvPr/>
        </p:nvSpPr>
        <p:spPr>
          <a:xfrm>
            <a:off x="1371600" y="7621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а ученического 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ой общественной организации «Куниковец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1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7000"/>
                            </p:stCondLst>
                            <p:childTnLst>
                              <p:par>
                                <p:cTn id="4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9000"/>
                            </p:stCondLst>
                            <p:childTnLst>
                              <p:par>
                                <p:cTn id="4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1500"/>
                            </p:stCondLst>
                            <p:childTnLst>
                              <p:par>
                                <p:cTn id="4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47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200"/>
                            </p:stCondLst>
                            <p:childTnLst>
                              <p:par>
                                <p:cTn id="5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700"/>
                            </p:stCondLst>
                            <p:childTnLst>
                              <p:par>
                                <p:cTn id="5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Diagram 30"/>
          <p:cNvGrpSpPr/>
          <p:nvPr/>
        </p:nvGrpSpPr>
        <p:grpSpPr>
          <a:xfrm>
            <a:off x="617760" y="129600"/>
            <a:ext cx="7992720" cy="3756240"/>
            <a:chOff x="617760" y="129600"/>
            <a:chExt cx="7992720" cy="3756240"/>
          </a:xfrm>
        </p:grpSpPr>
        <p:sp>
          <p:nvSpPr>
            <p:cNvPr id="183" name="Line 32"/>
            <p:cNvSpPr/>
            <p:nvPr/>
          </p:nvSpPr>
          <p:spPr>
            <a:xfrm>
              <a:off x="4511520" y="3130560"/>
              <a:ext cx="720" cy="75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2053"/>
            <p:cNvSpPr/>
            <p:nvPr/>
          </p:nvSpPr>
          <p:spPr>
            <a:xfrm flipH="1" flipV="1">
              <a:off x="3136320" y="1721160"/>
              <a:ext cx="685800" cy="43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2054"/>
            <p:cNvSpPr/>
            <p:nvPr/>
          </p:nvSpPr>
          <p:spPr>
            <a:xfrm>
              <a:off x="1472760" y="669600"/>
              <a:ext cx="1946880" cy="1230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Calibri"/>
                </a:rPr>
                <a:t>Подводит итоги школьной деятельност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2055"/>
            <p:cNvSpPr/>
            <p:nvPr/>
          </p:nvSpPr>
          <p:spPr>
            <a:xfrm flipH="1">
              <a:off x="2567520" y="2590200"/>
              <a:ext cx="97056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2056"/>
            <p:cNvSpPr/>
            <p:nvPr/>
          </p:nvSpPr>
          <p:spPr>
            <a:xfrm>
              <a:off x="617760" y="1975320"/>
              <a:ext cx="1946520" cy="1230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Calibri"/>
                </a:rPr>
                <a:t>Планирует деятельность ученического коллектив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2057"/>
            <p:cNvSpPr/>
            <p:nvPr/>
          </p:nvSpPr>
          <p:spPr>
            <a:xfrm>
              <a:off x="5485320" y="2590200"/>
              <a:ext cx="97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2058"/>
            <p:cNvSpPr/>
            <p:nvPr/>
          </p:nvSpPr>
          <p:spPr>
            <a:xfrm>
              <a:off x="6219720" y="1974600"/>
              <a:ext cx="2390760" cy="1587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Даёт поручения классным коллективам и школьным объединениям, заслушивает отчеты о выполнении поручений совет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2059"/>
            <p:cNvSpPr/>
            <p:nvPr/>
          </p:nvSpPr>
          <p:spPr>
            <a:xfrm flipV="1">
              <a:off x="5199480" y="1720080"/>
              <a:ext cx="687600" cy="43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2060"/>
            <p:cNvSpPr/>
            <p:nvPr/>
          </p:nvSpPr>
          <p:spPr>
            <a:xfrm>
              <a:off x="5602680" y="669600"/>
              <a:ext cx="1946880" cy="1230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Обсуждает важные вопросы для всей жизнедеятель ности школ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2061"/>
            <p:cNvSpPr/>
            <p:nvPr/>
          </p:nvSpPr>
          <p:spPr>
            <a:xfrm flipV="1">
              <a:off x="4511520" y="1359720"/>
              <a:ext cx="0" cy="61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062"/>
            <p:cNvSpPr/>
            <p:nvPr/>
          </p:nvSpPr>
          <p:spPr>
            <a:xfrm>
              <a:off x="3538080" y="129600"/>
              <a:ext cx="1946880" cy="1230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Утверждает документы, регламентирует жизнедеятель ность школ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2063"/>
            <p:cNvSpPr/>
            <p:nvPr/>
          </p:nvSpPr>
          <p:spPr>
            <a:xfrm>
              <a:off x="3316320" y="1834920"/>
              <a:ext cx="2390760" cy="1510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Calibri"/>
                </a:rPr>
                <a:t>Ученический сове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Calibri"/>
                </a:rPr>
                <a:t>шко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Прямоугольник 3"/>
          <p:cNvSpPr/>
          <p:nvPr/>
        </p:nvSpPr>
        <p:spPr>
          <a:xfrm>
            <a:off x="2971800" y="3962520"/>
            <a:ext cx="3124080" cy="7617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АЛИЗ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4"/>
          <p:cNvSpPr/>
          <p:nvPr/>
        </p:nvSpPr>
        <p:spPr>
          <a:xfrm>
            <a:off x="457200" y="4952880"/>
            <a:ext cx="1828800" cy="175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ТИВ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единительная работа ради достижения конкретной ц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5"/>
          <p:cNvSpPr/>
          <p:nvPr/>
        </p:nvSpPr>
        <p:spPr>
          <a:xfrm>
            <a:off x="2514600" y="4952880"/>
            <a:ext cx="1828800" cy="175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единение мнений в результате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кругленный прямоугольник 8"/>
          <p:cNvSpPr/>
          <p:nvPr/>
        </p:nvSpPr>
        <p:spPr>
          <a:xfrm>
            <a:off x="4648320" y="4952880"/>
            <a:ext cx="1828800" cy="175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единение мнений в процессе создания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9"/>
          <p:cNvSpPr/>
          <p:nvPr/>
        </p:nvSpPr>
        <p:spPr>
          <a:xfrm>
            <a:off x="6705720" y="4952880"/>
            <a:ext cx="1828800" cy="175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14"/>
          <p:cNvSpPr/>
          <p:nvPr/>
        </p:nvSpPr>
        <p:spPr>
          <a:xfrm flipH="1">
            <a:off x="1676160" y="4343400"/>
            <a:ext cx="114300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16"/>
          <p:cNvSpPr/>
          <p:nvPr/>
        </p:nvSpPr>
        <p:spPr>
          <a:xfrm>
            <a:off x="6324480" y="4343400"/>
            <a:ext cx="114300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18"/>
          <p:cNvSpPr/>
          <p:nvPr/>
        </p:nvSpPr>
        <p:spPr>
          <a:xfrm flipH="1">
            <a:off x="3808080" y="4802040"/>
            <a:ext cx="3240" cy="76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20"/>
          <p:cNvSpPr/>
          <p:nvPr/>
        </p:nvSpPr>
        <p:spPr>
          <a:xfrm flipH="1">
            <a:off x="5256360" y="4726080"/>
            <a:ext cx="2880" cy="152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щее количество учащихся по шко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F24B-0291-4808-97BD-77251DE3B07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8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C4E2-88DD-488F-AFB7-F9BDB4BF3F0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571680" y="770040"/>
            <a:ext cx="7594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ые задачи на 2010-2011 учебный г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ение качества образования. Выпускники нашей школы все должны успешно пройти итоговую аттестацию и  получить аттес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ение качества работы ШМ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с одаренными детьми  через более серьезный и продуманный подход  в организации работы НО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никовец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льнейшая работа по предпрофильной подготовке и профильному обуч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по успешной аттестации педагогических и руководящих рабо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Компьютер\Рабочий стол\45 лет школе\IMG_90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E:\DCIM\100SSCAM\SDC11291.JPG"/>
          <p:cNvPicPr/>
          <p:nvPr/>
        </p:nvPicPr>
        <p:blipFill>
          <a:blip r:embed="rId2"/>
          <a:stretch/>
        </p:blipFill>
        <p:spPr>
          <a:xfrm>
            <a:off x="5761080" y="5102280"/>
            <a:ext cx="3406680" cy="3938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6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ким образом движение учащихся по МОУ СОШ № 6 им. Ц,Л. Куников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 3 года составля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74B4-462D-4750-82AE-63949923B0A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28760" y="1571760"/>
          <a:ext cx="8286480" cy="4500360"/>
        </p:xfrm>
        <a:graphic>
          <a:graphicData uri="http://schemas.openxmlformats.org/drawingml/2006/table">
            <a:tbl>
              <a:tblPr/>
              <a:tblGrid>
                <a:gridCol w="1477800"/>
                <a:gridCol w="2311560"/>
                <a:gridCol w="2124000"/>
                <a:gridCol w="2373120"/>
              </a:tblGrid>
              <a:tr h="183348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ение 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2010 уч. год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ение 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 уч.год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ение 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2008 уч. год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104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ы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ч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 уч-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уч-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ч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уч-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уч-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вижение учащихся по МОУ СОШ № 6 за 3 год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количество уч-ся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2007-2008 2008-2009, 2009-2010 учебный го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24C6-E2AF-49C1-B5BD-E3917BA14FF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8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96AF-495D-4247-B9E4-77E56D9DE79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вижение учащихся 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009-2010 учебный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Диаграмма 13" descr=""/>
          <p:cNvPicPr/>
          <p:nvPr/>
        </p:nvPicPr>
        <p:blipFill>
          <a:blip r:embed="rId1"/>
          <a:stretch/>
        </p:blipFill>
        <p:spPr>
          <a:xfrm>
            <a:off x="566640" y="1584360"/>
            <a:ext cx="8083800" cy="4707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вижение по школам города и рай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ибы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ш № 2 –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ш № 5 –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ш № 7-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ш № 10 –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ш № 11 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ШИ -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ыбы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ш № 2 –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ш № 3 –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ш № 4 –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ш № 5 –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ш № 8 –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ш № 10 –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ш № 11 –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ОШ № 1 -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D9C5-818D-49B8-B7A6-05CB8874414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 Аттестация учащих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928520"/>
            <a:ext cx="85438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ТТЕСТУЮТ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583 учащихс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1-2 классы не аттестуютс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«ОТЛИЧНО»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ОНЧИЛ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35 учащих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,3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«4» и «5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17 учащих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37,2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довлетворительн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бучаются –404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-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69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успевающих  - 0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33F5-3631-4782-966B-47C532E1E39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15</cp:lastModifiedBy>
  <dcterms:modified xsi:type="dcterms:W3CDTF">2011-02-10T05:37:23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